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229-AE10-4854-9353-4F30BBDE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800-CF2B-4C0B-8EEE-79854059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3AC-9A96-4813-AC72-914A4215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D7D-6337-43C5-B2F5-1BA818E6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E575-5637-4E75-8E3F-2F7BB95F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121B-9992-4A05-97A5-9982F40B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6773-5A36-4EC4-91A7-7B467E33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5206-633E-4DB8-A0C3-0B006437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7F8-7BB8-4878-AF38-71063597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E511-BFD7-434F-877A-E5F20C7C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D140-2E56-4C7D-9AEB-C7F7872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016-55AA-42B8-A1D6-2A78E020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3144-0703-4B57-B5C9-5D2938A9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1521-D839-4732-A262-8295E3B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31C4-169C-4AD5-9EEE-C65DF1A2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C2E0-440C-428C-A995-1B42759B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D72B-FCB5-4E01-8D81-D47C928E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203-361F-43AF-8102-9AD9940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7BE-1C77-4A0D-B973-FA82F8CC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77E-0FFE-461C-94E6-7FB20EC1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BD7-34B0-4B3D-9864-6F5B355B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364-1515-4984-9DF1-7F13892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682-D783-49A0-8029-BAEC64B1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EDD-12F7-49CA-98AD-25539C6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01FD-FDF3-4514-9446-18A0853411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0283-848E-4659-BE7B-88C3E5F4B20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lson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ocialworkers.org/pubs/code/default.asp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Ethics and Social Responsibility in Marketing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lson Take C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opening Vignette “At Molson, There is more brewing than beer” raises some interesting and contraversial points as to what a business’ roles is in our socie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ajor question becomes: “Why would a business do things like Molson is doing if it has no direct impact on sales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molson.co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th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thics are the moral principles and values that govern the actions and decisions of an individual group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thics are not Laws.  Laws are enforceable by the courts whereas ethics are no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thical Behavio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is Ethics so talked about in Business now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is increased pressure on business to make decisions in a society characterized by a diverse value syste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siness decision are judged publicly by groups that have a diverse values and intere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blic expectations have rise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siness conduct may be getting more unethica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thical Behaviour is molded by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cietal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values, ideas and attitudes of societ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siness/Industry cultu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at is acceptable in the industry in which the business opera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ational culture &amp; expect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sideration internal to the business – the written and unwritten rules of how a business opera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written Code of Ethics usually outlines the expected level of ethical standard in an organization. (eg. </a:t>
            </a: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socialworkers.org/pubs/code/default.asp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wo major issue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dustrial espionage is spying on other business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ribes are payments made to ensure a deal is mad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als vs. the Jo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ny individuals are caught between conflicting goals of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) Moral Idealism – a personal philosophy of what is right and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)Utilitarianism – providing the greatest good for the most numb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cial Responsibil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ations are part of society and are accountable to society for their ac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lud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) a responsibility to make a profit so as to remain in business and contribute to society by providing jobs, services, et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) Stakeholder responsibility - to those directly affected by the business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) Societal responsibility – to those in greater societ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cial Aud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 assessment to ensure that a business is being socially responsible to stakeholders and socie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2:46:54Z</dcterms:created>
  <dc:creator>Paul Tilley</dc:creator>
  <dc:description/>
  <dc:language>en-US</dc:language>
  <cp:lastModifiedBy>Paul Tilley</cp:lastModifiedBy>
  <dcterms:modified xsi:type="dcterms:W3CDTF">2003-09-26T17:45:36Z</dcterms:modified>
  <cp:revision>3</cp:revision>
  <dc:subject/>
  <dc:title>Ethics and Social Responsibility in Marketing</dc:title>
</cp:coreProperties>
</file>